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B53-2312-4F60-8648-455D1D65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D58-E4C9-4F2C-B360-DD9E0A0D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80A-9909-41BE-B600-A4B49106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FCB-6DDE-40EA-A8DA-93426C08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048B-FE6A-432B-A28A-73EE0E61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89CD-48F0-4A36-93C7-C0608664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BC01-2BAE-4FBE-A3A7-B983CC1E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DF5C-22BF-40F4-B456-46A1AD45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2B67-3BD8-436B-9FDA-C3F6EE41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4AF6-30E9-41E7-8DD6-DB9EE182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AD02-7CF3-44FB-A5F2-96ECE2E8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499-CC47-409F-A353-FB73E2FC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C4D9-BA3D-44AB-BC51-20B26FE1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6726-569C-4AF5-B35E-E54D4209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A7CD-7EFC-4B6C-A9DF-28A385F5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AC37-68C2-4627-8A8F-A9756B6D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B588-B280-411E-A4B3-B7F40DFC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69C-1A80-48AF-9BD0-AFB98884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957-6E2F-4BE4-98A1-C67F4B6E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2A7-9A45-4FB7-8620-D6FB6604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D36-61C5-495B-8FF6-BA309C81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68B-43C5-4E8F-933C-FCA32307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211-53FB-4372-B959-38594435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202-DC04-428A-94F7-FCBB4B62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F513-A5E0-41AE-911C-66539CEB99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EB70-AE46-4216-93A5-C5CF4F73B6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entside DOM Scripting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et Javascrip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08/2009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ar1 Kwartaal2 Les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Variabele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er om “iets” tijdelijk te onthou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amgeving belangrij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se sensi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bruik logische na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melCase handig (myFirstStringV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“loose typing” (datatype niet verplicht opgeven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niet strict, declaratie vooraf niet nodig maar wel zo netjes (var gebruike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Express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itdruk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ithmetic: evaluates to a number, for examp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ing: evaluates to a character string, for example "Fred" or "234"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ical: evaluates to true or fal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ie ook http://lib.ru/JAVA/javascr/expr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: alert, confirm, prom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eren dialog box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rt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EN return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fir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p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gelijkheid om tekst in te 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opdra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raag om naam bij lade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ingevulde naam als &lt;h1&gt; koptek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10 teksten achter elkaar via een alert bij laden va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at gebruiker bij laden van pagina 2 getallen in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 deze getallen bij elkaar op en toon het resul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t is een Client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lient is een computer in een netwerk die zich op dat netwerk gedraagt als een klant: hij haalt informatie op van een serve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omputer wordt een client door bepaalde programma’s die daar op draaien zoals Firefox (browser) en Outlook (mai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 Clien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anden worden welliswaar van webserver gehaald maar de inhoud wordt lokaal in de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S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ash sw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koppe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e: zoals met CS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lt;script type=“text/javascript” src=“bestand.js”&gt;&lt;/script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katie javascript best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hankelijk van doe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head&gt; section: javascript wordt uitgevoerd tijdens laden van &lt;head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body&gt; section: javascript wordt uitgevoerd tijdens laden van &lt;body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derop, tussen &lt;/head&gt; en &lt;/body&gt;: javascript wordt uitgevoerd als gehele pagina in de browser s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s: altijd afvragen wanneer je wat uit wilt vo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en, methoden en AP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 DOM object = docu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e = wr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en en methodes te vinden via  javascript references (API-references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I = Application Programming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ie http://www.gotapi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XHTML stri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script type="text/javascript"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!-- &lt;![CDATA[ Afschermen voor oude brow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/ ]]&gt; Einde afscherming --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Commentaa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entaar in code = belangrijk voor ontwikkelaa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niet door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manier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regel //dit is commenta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* start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inde blok *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Datatyp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ing (= tekst, alles tussen quot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(= numerieke gegevens, getal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olean (= schakelaar, aan of uit, true/fal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ijn er meer maar die worden later behand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5:49:30Z</dcterms:created>
  <dc:creator>Arjo Post</dc:creator>
  <dc:description/>
  <dc:language>en-US</dc:language>
  <cp:lastModifiedBy>Arjo Post</cp:lastModifiedBy>
  <dcterms:modified xsi:type="dcterms:W3CDTF">2008-11-24T08:40:21Z</dcterms:modified>
  <cp:revision>3</cp:revision>
  <dc:subject/>
  <dc:title>Clientside DOM Scripting met Javascript</dc:title>
</cp:coreProperties>
</file>