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BFD-AE6F-45A1-B8DB-3DE6CD44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04A-937F-45E4-AA94-4BC3147D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17A-C068-4875-A5D5-D665B628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09F-E596-4CFB-A466-764F3C78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395-1D88-4C26-9D35-DF394BBA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1CE-EA08-42B5-B134-B95C4C20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7C4-E6D8-42DE-BC20-0A09E6E6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9A8-F3AC-4392-9056-B9E693ED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C23-9186-4122-896B-FF859135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ED3-2AA0-491E-A0D3-1DD8F9CE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579-C3B5-422C-8D90-21EE4183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D6A-3897-4AE3-9000-05E78687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DB44-C490-4E33-AA2F-E163F5BC4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 2008_2009 Q1 L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, Lists, Validati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 (html node struc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zichten naar het bo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ndeld wor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 structuur: node rel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ken aan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9:55:48Z</dcterms:created>
  <dc:creator>Arjo Post</dc:creator>
  <dc:description/>
  <dc:language>en-US</dc:language>
  <cp:lastModifiedBy>Arjo Post</cp:lastModifiedBy>
  <dcterms:modified xsi:type="dcterms:W3CDTF">2008-09-15T09:14:32Z</dcterms:modified>
  <cp:revision>4</cp:revision>
  <dc:subject/>
  <dc:title>FED 2008_2009 Q1 Les2</dc:title>
</cp:coreProperties>
</file>